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AFC0-215A-4A8B-894C-ECBA34B8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813-15CB-4341-ABBB-CD7176CB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265-A48E-47B4-9732-19691C36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96F-CE1D-4CCE-981C-306D7CB0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25E-B9EA-4AE5-8A9F-72DD2069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C4F-B22A-47B9-80E4-F8382103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739-71A0-40EC-99D4-767211BC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F3F-F0C5-498E-B8B2-2762C18E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B17-6E65-49E3-B796-86EEA856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436-1C54-451F-B704-229974B7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350-CF5B-4062-B1CD-CF78B49E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4CC-6588-480E-9082-73DA5575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1F7C-CF69-4FEA-852E-B68AEF9B7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a “Sn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say the word that appears before I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goin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em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mad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da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32:00Z</dcterms:created>
  <dc:creator>Wake County Public Schools</dc:creator>
  <dc:description/>
  <dc:language>en-US</dc:language>
  <cp:lastModifiedBy>jabdella</cp:lastModifiedBy>
  <dcterms:modified xsi:type="dcterms:W3CDTF">2010-02-14T18:43:48Z</dcterms:modified>
  <cp:revision>5</cp:revision>
  <dc:subject/>
  <dc:title>Words in a “Snap”</dc:title>
</cp:coreProperties>
</file>